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D3FC-4D6D-4E1F-9A16-011517C8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640-7ACA-43A8-82B6-B71E4890E2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793-4DCF-4239-93E8-4377338F1D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3AA7-FE4B-4371-B52C-E4A410068B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BAC2-EC5B-4861-8647-8B36160C18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5C18-1CAE-4DBA-98C6-E53F6F7E0B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0A0-EBE5-43CD-A5D9-6062DEF7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312-C2D3-45C2-ABC4-21BD9E2C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ABF-16EE-4743-8815-EF12EDF2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AC8-BF04-4067-A875-EE35D741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B06A-E36E-4211-A664-15D4BA22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5317-640F-48BC-8B92-ED640039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3471-D45F-4ED4-A4F5-D2B4824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2C97-C68E-4115-B589-5F917B76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6742-CFEB-437C-9502-FA203C12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7D2D-16BF-43B4-9C54-E9245E89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71DC-C054-4FB1-BD9C-9CBBFCBB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37E1-006F-47EB-8220-CC07359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0A0-7D7D-447B-B92E-A8CC0913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9EF4-902B-446C-9B56-E7A5117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DF20-C77E-4E91-A24F-0642364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25A5-6E24-4E65-A7F9-36217652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31C-E209-48CC-8442-3BC0DBA5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FCA-1CCC-4BD2-93A9-97D5339B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4D7-F1C2-4177-A118-398C6088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EC1-42F9-44D1-BB29-E673CD63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EC3-9756-49BE-BD3E-D1BC2A23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76E-313C-4933-8AF3-759B480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BF1-4107-4CB9-8C1A-FF6DF240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0B6-5C9D-48BC-A9F2-01169FD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DF7-FE3B-4855-A63F-509E3BA6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1471-7ACB-482C-A05F-2FD20FE73F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TOCK INVEST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These are the stocks of the most well established and financially sound companies. 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57200" y="4394160"/>
            <a:ext cx="3881520" cy="2409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5334120" y="4394160"/>
            <a:ext cx="3236760" cy="24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20" y="576360"/>
            <a:ext cx="9144000" cy="53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These are the stocks of companies that pay regular and steadily increasing dividends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251172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27348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956880"/>
            <a:ext cx="876312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These are the stocks of companies whose earnings are expected to grow at an above average rat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3382920" cy="2255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76920" y="4056120"/>
            <a:ext cx="3322440" cy="20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48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These are stocks that appreciate in value quickly when economic growth is strong and fall rapidly when economic growth is declining.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6320" y="4800600"/>
            <a:ext cx="2388960" cy="1914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3505320" y="489744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3"/>
          <a:stretch/>
        </p:blipFill>
        <p:spPr>
          <a:xfrm>
            <a:off x="6629400" y="4897440"/>
            <a:ext cx="22924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These are stocks that remain stable during declines in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609480" y="3962520"/>
            <a:ext cx="2511720" cy="2511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4876920" y="3962520"/>
            <a:ext cx="3273480" cy="245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6T20:11:13Z</dcterms:modified>
  <cp:revision>150</cp:revision>
  <dc:subject/>
  <dc:title>D/O: TO EXPLAIN AND IDENTIFY PROBLEMS OF ECONOMICS</dc:title>
</cp:coreProperties>
</file>